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19D-8A2A-4E0A-871E-3552AD25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6F6-775C-4E2A-899A-C28E966C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FEE-776D-4AB8-8495-DB15C2AE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40C-B44D-4223-BB3F-5E7B9694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CCA-C9D6-4ABC-914C-9CEF5FB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906-A6C6-4195-A2A0-3FEEEF2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C84-1042-40BA-BA6A-F8346CB4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F6C-5326-4286-8C5F-4841F6D7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1BE-CE14-4E1B-9E19-A43CF883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12F-1107-4FB2-96B1-F848BEA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4F4-D830-4A8A-BB49-5FDCFF5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E96-8A1A-4AD6-B301-BF681761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4AD-AA36-4BF2-A074-218EEC3293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143000"/>
            <a:ext cx="5934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und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1960" y="3657600"/>
            <a:ext cx="6743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vo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Verbindung Musik+Entspannung gibt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Faktoren beeinflusse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lässt sich die Musikwirkung erklä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 auf psychologischer Ebe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038480"/>
            <a:ext cx="1905120" cy="1295640"/>
          </a:xfrm>
          <a:prstGeom prst="rightArrow">
            <a:avLst>
              <a:gd name="adj1" fmla="val 50000"/>
              <a:gd name="adj2" fmla="val 3676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257800"/>
            <a:ext cx="1905120" cy="1447920"/>
          </a:xfrm>
          <a:prstGeom prst="rightArrow">
            <a:avLst>
              <a:gd name="adj1" fmla="val 50000"/>
              <a:gd name="adj2" fmla="val 32894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usti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w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320" y="46483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Liegemonoch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09680" y="762120"/>
            <a:ext cx="4838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rksame Faktor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751400" y="4038480"/>
            <a:ext cx="590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 empirischer Forschung (deskript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90760" y="422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pirische Ergebn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4479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0% der Schüler/innen und 36% der Lehrer/innen hören Musik weil sie entspan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Verwendung lässt keinerlei Aussagen über die genannten Paramter 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276720"/>
            <a:ext cx="838080" cy="914400"/>
          </a:xfrm>
          <a:prstGeom prst="downArrow">
            <a:avLst>
              <a:gd name="adj1" fmla="val 50000"/>
              <a:gd name="adj2" fmla="val 2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5680" y="4384800"/>
            <a:ext cx="780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ist nicht zulässig, von „entspannender Musik“ zu sprech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600" y="3470400"/>
            <a:ext cx="146988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419720"/>
            <a:ext cx="36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4520" y="4114800"/>
            <a:ext cx="19242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895480"/>
            <a:ext cx="1218960" cy="1447920"/>
          </a:xfrm>
          <a:prstGeom prst="downArrow">
            <a:avLst>
              <a:gd name="adj1" fmla="val 50000"/>
              <a:gd name="adj2" fmla="val 29696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3716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ten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G-Untersuchun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8920" y="4842000"/>
            <a:ext cx="4275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genblicksempfinden: adäqu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 Musik angene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fällt die Mus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7480" y="4842000"/>
            <a:ext cx="5345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: durch Bourdon-St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: durch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6280" y="650880"/>
            <a:ext cx="7407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ssung der Entspannung bei Gembris durch ein Polaritätsprofil, das Schwabe entwickelt 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05120"/>
          <a:ext cx="609588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eiz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edfer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ic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ur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lö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ü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ung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chwin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280" y="270828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9160" y="19051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9640" y="354636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7960" y="35053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340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133720"/>
            <a:ext cx="4572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7120" y="26668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tisch-physiologisch: Mes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2440" y="358128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gnitiv-psychologisch: Befragung (Polaritätsprof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880" y="31240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isch: Beoba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1800" y="2209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pto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4880" y="4308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040" y="4917960"/>
            <a:ext cx="303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ktives Emp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240" y="4800600"/>
            <a:ext cx="3583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eten charakterist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952880"/>
            <a:ext cx="609840" cy="381240"/>
          </a:xfrm>
          <a:prstGeom prst="leftRightArrow">
            <a:avLst>
              <a:gd name="adj1" fmla="val 50000"/>
              <a:gd name="adj2" fmla="val 318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640" y="270828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952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9640" y="354636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505320"/>
            <a:ext cx="120024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63040" y="1905120"/>
            <a:ext cx="11134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133720"/>
            <a:ext cx="1522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19720"/>
            <a:ext cx="7619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: Die nicht Aktivierten („Entspannten“) reagieren empfindlicher auf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5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Korrelation schnell-erregend und langsam-entspannend ist abgeschwächt, aber nicht vollständig aufgeho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2240" y="10317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O-Prinz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2880" y="232740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5040" y="396252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280" y="198108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434340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6668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3581280"/>
            <a:ext cx="3047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3120" y="3089160"/>
            <a:ext cx="1706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geneh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240" y="568008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ISO-Prinzip gilt auch für den emotionalen Gehalt von Musik, nicht jedoch auf der vegetativen Eb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133720" y="533520"/>
            <a:ext cx="4657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macht Musi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838080"/>
            <a:ext cx="6476760" cy="1905120"/>
          </a:xfrm>
          <a:prstGeom prst="downArrowCallout">
            <a:avLst>
              <a:gd name="adj1" fmla="val 36990"/>
              <a:gd name="adj2" fmla="val 38498"/>
              <a:gd name="adj3" fmla="val 19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Verhaltenstherap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liche Art von „Entspannung durch Musi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4191120"/>
            <a:ext cx="6858000" cy="2057400"/>
          </a:xfrm>
          <a:prstGeom prst="upArrowCallout">
            <a:avLst>
              <a:gd name="adj1" fmla="val 36114"/>
              <a:gd name="adj2" fmla="val 39583"/>
              <a:gd name="adj3" fmla="val 18231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sychotherpie (Musiktherapi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usik soll die Ursachen des Leid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eben (helfe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304920"/>
            <a:ext cx="55720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e macht Musik d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(Erklärungstheorien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917280" y="3809880"/>
            <a:ext cx="384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kal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sych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r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505320"/>
            <a:ext cx="3657600" cy="18288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n über Ursa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Ver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720" y="422280"/>
            <a:ext cx="1621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r Fall 1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762120"/>
            <a:ext cx="4572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879480"/>
            <a:ext cx="7620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ine Fixierung auf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zu hohe Ansprüche, negative Wahrnehmungen, große Sensibilitä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7120" y="228600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lenkt ab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merksamkeitsumlen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546360"/>
            <a:ext cx="7467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resultiert aus zu wenig Lust, Freude, positiven Erlebni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03480" y="5070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macht Spas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rägt zum Lustgewinn bei und überdeckt negative Erlebnis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4880" y="25560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kehrt dadurch den Kreislauf, der zur Anspannung führt, um („Deregulation“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0920" y="4038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= Prinzip der Verhaltenstherapi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255600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80720" y="2971800"/>
            <a:ext cx="129564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7240" y="5299200"/>
            <a:ext cx="222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„Klangbet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048120"/>
            <a:ext cx="15228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0880" y="5222880"/>
            <a:ext cx="16160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ildes 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971800"/>
            <a:ext cx="20574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876920"/>
            <a:ext cx="29876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tmung bei intensivem Nachvollzug von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3080" y="3470400"/>
            <a:ext cx="1468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iS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04760" y="3048120"/>
            <a:ext cx="685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7160" y="225108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Dadurch bringt sie das verlorene Gleichgewicht wieder in Ordnu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00840" y="4114800"/>
          <a:ext cx="18115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0840" y="4114800"/>
                    <a:ext cx="18115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715000" y="3352680"/>
            <a:ext cx="2362320" cy="685800"/>
          </a:xfrm>
          <a:prstGeom prst="cloudCallout">
            <a:avLst>
              <a:gd name="adj1" fmla="val 52421"/>
              <a:gd name="adj2" fmla="val 97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Wußt ich‘s do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7160" y="225108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2743200"/>
            <a:ext cx="35812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0240" y="4765680"/>
            <a:ext cx="196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motor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4120" y="274320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191120"/>
            <a:ext cx="2377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ufgrund von Bildung (Musikunterr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543800" y="2819520"/>
            <a:ext cx="7632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4648320"/>
            <a:ext cx="23018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egen der emotionalen Wir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209680"/>
            <a:ext cx="10670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2286000"/>
            <a:ext cx="8380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2286000"/>
            <a:ext cx="9144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1760" y="49860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kala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0800" y="1447920"/>
            <a:ext cx="62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nicht-ent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ange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er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uhigt                                         aufge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änftigt                                      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133720"/>
            <a:ext cx="2210040" cy="1066680"/>
          </a:xfrm>
          <a:prstGeom prst="leftRightArrow">
            <a:avLst>
              <a:gd name="adj1" fmla="val 50000"/>
              <a:gd name="adj2" fmla="val 4124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440" y="44607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alische Para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560" y="5146560"/>
            <a:ext cx="7788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, Tempo, Dichte der Ereignisse, Tonhöhenlage, Klangfarbe (immanent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“, Bekanntheit, Text-“absolut“ (kulturspezifisch-subjektiv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40336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ist ein Placebo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e wirkt durch Selbst- oder Fremdsuggestion. Da musikalische Bildung gering ist, wird der Musik unangemessen große Wirkung zugesprochen – und dann wirkt sie tatsächlich mittels Sug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92120" y="4800600"/>
            <a:ext cx="2416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Verspre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160" y="4800600"/>
            <a:ext cx="927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5880" y="4800600"/>
            <a:ext cx="8236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4280" y="6172200"/>
            <a:ext cx="9608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48520" y="5334120"/>
            <a:ext cx="609480" cy="761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0292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5410080"/>
            <a:ext cx="1447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520" y="6172200"/>
            <a:ext cx="3402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mung von Prof. Str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6400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95480" y="54097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40336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t Musik ein Placeb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22240" y="879480"/>
            <a:ext cx="7407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Ursache von Anspannung ist Ang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429000"/>
            <a:ext cx="2530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Dies ist eigentlich schon Fall 2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371600" y="19810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6240" y="4994280"/>
            <a:ext cx="2070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rsache: Ang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057400"/>
            <a:ext cx="64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ann bei der Verarbeitung („Überwindung“) von Angst mitwirken und dadurch auch entspa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525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760" y="5029200"/>
            <a:ext cx="3070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mptom: An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7400" y="5985000"/>
            <a:ext cx="2963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: Angst besei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8560" y="5908680"/>
            <a:ext cx="2629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lge: 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52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724280"/>
            <a:ext cx="8153280" cy="190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ntspannt" descr=""/>
          <p:cNvPicPr/>
          <p:nvPr/>
        </p:nvPicPr>
        <p:blipFill>
          <a:blip r:embed="rId1"/>
          <a:stretch/>
        </p:blipFill>
        <p:spPr>
          <a:xfrm>
            <a:off x="533520" y="3240"/>
            <a:ext cx="807696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48720" y="1981080"/>
            <a:ext cx="6858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438280"/>
            <a:ext cx="9144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6600" y="2286000"/>
            <a:ext cx="2072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utdruck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0280" y="2971800"/>
            <a:ext cx="251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rzfrequenz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29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utwiderstandskurve“ wird r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286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ehirnwellen „langsamer“ synchronisi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3240" y="5334120"/>
            <a:ext cx="3106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chmerztoleranz größ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657600" y="3962520"/>
            <a:ext cx="3808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81280" y="2514240"/>
            <a:ext cx="129564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438280"/>
            <a:ext cx="6858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72000" y="609480"/>
            <a:ext cx="533520" cy="152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4240" y="304920"/>
            <a:ext cx="5729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re 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 (EEG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synchr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ain-Disco“ (Hautwiderstands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240" y="2438280"/>
            <a:ext cx="4064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togenes 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ch bin ganz ruhi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schw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war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00" y="4572000"/>
            <a:ext cx="696420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rinzip: Umkehr von Ursache und Wirk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Bio-)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Auto-)Sug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5120" y="152280"/>
            <a:ext cx="53244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+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048120"/>
            <a:ext cx="1905120" cy="1523880"/>
          </a:xfrm>
          <a:prstGeom prst="rightArrow">
            <a:avLst>
              <a:gd name="adj1" fmla="val 50000"/>
              <a:gd name="adj2" fmla="val 31254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85800"/>
            <a:ext cx="2438640" cy="609480"/>
          </a:xfrm>
          <a:prstGeom prst="rightArrow">
            <a:avLst>
              <a:gd name="adj1" fmla="val 50000"/>
              <a:gd name="adj2" fmla="val 10003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merz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1828800" cy="76176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mstrit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8195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Tiefen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209680"/>
            <a:ext cx="17524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 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080" y="40798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uperlear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05:17Z</dcterms:created>
  <dc:creator>wms</dc:creator>
  <dc:description/>
  <dc:language>en-US</dc:language>
  <cp:lastModifiedBy>wms</cp:lastModifiedBy>
  <dcterms:modified xsi:type="dcterms:W3CDTF">2004-12-13T14:35:06Z</dcterms:modified>
  <cp:revision>22</cp:revision>
  <dc:subject/>
  <dc:title>PowerPoint-Präsentation</dc:title>
</cp:coreProperties>
</file>