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B83-14CC-45BB-8A4A-257BAC2C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E99-7CAC-423F-816C-F7314CBD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188-F062-4F86-B38D-2F085FCB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556-7E31-4D7E-97B1-739B692E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EC8-9A6D-46FF-901A-768DDD27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CF2-408A-43F4-8458-3318A5F2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575-65FE-4F7F-9EA4-FFFD1E2D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187-AF0D-4396-9FDD-7D51FF92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738-C77E-40B1-923B-947B45A4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CAD-B32A-4D8B-B7BF-D1971B72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BA9-C024-4A0C-B4A3-00CCD9F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09E-CA52-4F9D-8E92-3A91EB6A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FEC5-1EB0-4A21-BB75-885102B0DF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143000"/>
            <a:ext cx="59342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sik und Entspann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371960" y="3657600"/>
            <a:ext cx="67431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tion von Entspann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Verbindung Musik+Entspannung gibt 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Faktoren beeinflussen Entspann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e lässt sich die Musikwirkung erklä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 auf psychologischer Ebe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4038480"/>
            <a:ext cx="1905120" cy="1295640"/>
          </a:xfrm>
          <a:prstGeom prst="rightArrow">
            <a:avLst>
              <a:gd name="adj1" fmla="val 50000"/>
              <a:gd name="adj2" fmla="val 3676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257800"/>
            <a:ext cx="1905120" cy="1447920"/>
          </a:xfrm>
          <a:prstGeom prst="rightArrow">
            <a:avLst>
              <a:gd name="adj1" fmla="val 50000"/>
              <a:gd name="adj2" fmla="val 32894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kustis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wing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320" y="464832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Liegemonoch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09680" y="762120"/>
            <a:ext cx="48387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rksame Faktor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751400" y="4038480"/>
            <a:ext cx="590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 empirischer Forschung (deskript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90760" y="4222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pirische Ergebnis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4479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0% der Schüler/innen und 36% der Lehrer/innen hören Musik weil sie entspan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Verwendung lässt keinerlei Aussagen über die genannten Paramter 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276720"/>
            <a:ext cx="838080" cy="914400"/>
          </a:xfrm>
          <a:prstGeom prst="downArrow">
            <a:avLst>
              <a:gd name="adj1" fmla="val 50000"/>
              <a:gd name="adj2" fmla="val 27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5680" y="4384800"/>
            <a:ext cx="780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ist nicht zulässig, von „entspannender Musik“ zu sprech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7600" y="3470400"/>
            <a:ext cx="146988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us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utstä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4419720"/>
            <a:ext cx="36576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04520" y="4114800"/>
            <a:ext cx="19242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895480"/>
            <a:ext cx="1218960" cy="1447920"/>
          </a:xfrm>
          <a:prstGeom prst="downArrow">
            <a:avLst>
              <a:gd name="adj1" fmla="val 50000"/>
              <a:gd name="adj2" fmla="val 29696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1371600"/>
            <a:ext cx="2133720" cy="106668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ten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228600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EG-Untersuchun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1447920"/>
            <a:ext cx="2590560" cy="1981080"/>
          </a:xfrm>
          <a:prstGeom prst="leftArrow">
            <a:avLst>
              <a:gd name="adj1" fmla="val 50000"/>
              <a:gd name="adj2" fmla="val 3269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38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98920" y="4842000"/>
            <a:ext cx="4275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genblicksempfinden: adäqu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t die Musik angeneh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fällt die Musi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9720" y="955800"/>
            <a:ext cx="422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rierende Fakto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motionale Ein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sgangserregung/-aktiv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1447920"/>
            <a:ext cx="2590560" cy="1981080"/>
          </a:xfrm>
          <a:prstGeom prst="leftArrow">
            <a:avLst>
              <a:gd name="adj1" fmla="val 50000"/>
              <a:gd name="adj2" fmla="val 3269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u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2971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97480" y="4842000"/>
            <a:ext cx="5345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: durch Bourdon-St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: durch Entspannungs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6280" y="650880"/>
            <a:ext cx="7407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ssung der Entspannung bei Gembris durch ein Polaritätsprofil, das Schwabe entwickelt 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1905120"/>
          <a:ext cx="609588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gesp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gegli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ausgegli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eiz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edfer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ic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ruh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h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ur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i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lö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pan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ü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ung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chwing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woh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17680" y="193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4280" y="2708280"/>
            <a:ext cx="1046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1640" y="194616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47920" y="354636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9160" y="190512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9640" y="354636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120" y="11430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828800" y="22096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3048120"/>
            <a:ext cx="3429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46360" y="11080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re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7960" y="350532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3400" y="190512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133720"/>
            <a:ext cx="4572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733920"/>
            <a:ext cx="3808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87120" y="26668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atisch-physiologisch: Mess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82440" y="358128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gnitiv-psychologisch: Befragung (Polaritätsprof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4880" y="3124080"/>
            <a:ext cx="32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isch: Beobach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1800" y="22096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ptoma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4880" y="43084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7040" y="4917960"/>
            <a:ext cx="3038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ktives Empf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240" y="4800600"/>
            <a:ext cx="3583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reten charakteristis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t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4952880"/>
            <a:ext cx="609840" cy="381240"/>
          </a:xfrm>
          <a:prstGeom prst="leftRightArrow">
            <a:avLst>
              <a:gd name="adj1" fmla="val 50000"/>
              <a:gd name="adj2" fmla="val 318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7680" y="193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4640" y="2708280"/>
            <a:ext cx="1198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ng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1640" y="194616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7920" y="354636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9520" y="1905120"/>
            <a:ext cx="11638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9640" y="3546360"/>
            <a:ext cx="80856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120" y="11430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828800" y="22096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048120"/>
            <a:ext cx="3429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46360" y="11080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reg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3505320"/>
            <a:ext cx="120024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63040" y="1905120"/>
            <a:ext cx="111348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hr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3733920"/>
            <a:ext cx="38124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2133720"/>
            <a:ext cx="15228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419720"/>
            <a:ext cx="7619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mbris: Die nicht Aktivierten („Entspannten“) reagieren empfindlicher auf Mus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559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Korrelation schnell-erregend und langsam-entspannend ist abgeschwächt, aber nicht vollständig aufgehob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22240" y="103176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O-Prinzi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02880" y="2327400"/>
            <a:ext cx="1046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5040" y="3962520"/>
            <a:ext cx="1198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ng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3280" y="1981080"/>
            <a:ext cx="12002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3240" y="4343400"/>
            <a:ext cx="18874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666880"/>
            <a:ext cx="3352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62320" y="3581280"/>
            <a:ext cx="3047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3120" y="3089160"/>
            <a:ext cx="17064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genehm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240" y="568008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ISO-Prinzip gilt auch für den emotionalen Gehalt von Musik, nicht jedoch auf der vegetativen Eb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133720" y="533520"/>
            <a:ext cx="46576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s macht Musik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1274400" y="286056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1: Musik behandelt die Symptome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2: Musik behebt die Ursachen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74400" y="2860560"/>
            <a:ext cx="716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1: Musik behandelt die Symptome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ll 2: Musik behebt die Ursachen von Anspann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838080"/>
            <a:ext cx="6476760" cy="1905120"/>
          </a:xfrm>
          <a:prstGeom prst="downArrowCallout">
            <a:avLst>
              <a:gd name="adj1" fmla="val 36990"/>
              <a:gd name="adj2" fmla="val 38498"/>
              <a:gd name="adj3" fmla="val 19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Verhaltenstherap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übliche Art von „Entspannung durch Musik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4191120"/>
            <a:ext cx="6858000" cy="2057400"/>
          </a:xfrm>
          <a:prstGeom prst="upArrowCallout">
            <a:avLst>
              <a:gd name="adj1" fmla="val 36114"/>
              <a:gd name="adj2" fmla="val 39583"/>
              <a:gd name="adj3" fmla="val 18231"/>
              <a:gd name="adj4" fmla="val 666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Psychotherpie (Musiktherapi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Musik soll die Ursachen des Leid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heben (helfen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3880" y="304920"/>
            <a:ext cx="5572080" cy="29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e macht Musik da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(Erklärungstheorien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917280" y="3809880"/>
            <a:ext cx="384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ysikal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sycholog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urologische Erklä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3505320"/>
            <a:ext cx="3657600" cy="18288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n über Ursac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n Ver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5720" y="422280"/>
            <a:ext cx="1621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ur Fall 1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762120"/>
            <a:ext cx="45720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879480"/>
            <a:ext cx="7620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ine Fixierung auf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zu hohe Ansprüche, negative Wahrnehmungen, große Sensibilitä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87120" y="2286000"/>
            <a:ext cx="58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lenkt ab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merksamkeitsumlen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3546360"/>
            <a:ext cx="7467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resultiert aus zu wenig Lust, Freude, positiven Erlebnis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03480" y="507060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macht Spass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trägt zum Lustgewinn bei und überdeckt negative Erlebnis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46280" y="574560"/>
            <a:ext cx="75596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rgebnis einer Fehlregulation, eines Kreislaufs, bei dem die Symptome die Ursache verstärken (man schaukelt sich ho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4880" y="25560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physiologisch auf die Symptom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kehrt dadurch den Kreislauf, der zur Anspannung führt, um („Deregulation“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0920" y="403848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= Prinzip der Verhaltenstherapi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46280" y="574560"/>
            <a:ext cx="75596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 ist Ergebnis einer Fehlregulation, eines Kreislaufs, bei dem die Symptome die Ursache verstärken (man schaukelt sich hoc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4880" y="2556000"/>
            <a:ext cx="71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physiologisch auf die Sympt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980720" y="2971800"/>
            <a:ext cx="129564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7240" y="5299200"/>
            <a:ext cx="2223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„Klangbet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3048120"/>
            <a:ext cx="152280" cy="1752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0880" y="5222880"/>
            <a:ext cx="16160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wildes Ta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2971800"/>
            <a:ext cx="20574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876920"/>
            <a:ext cx="29876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Atmung bei intensivem Nachvollzug von Entspannungs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3080" y="3470400"/>
            <a:ext cx="1468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miSny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904760" y="3048120"/>
            <a:ext cx="6858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72480" y="574560"/>
            <a:ext cx="761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s ist eine Folge des Ungleichgewichts von K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ung ist ein KGS-Gleichgewichtszu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27160" y="2251080"/>
            <a:ext cx="74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gleichmässi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 Körper, Geist und Seele. Dadurch bringt sie das verlorene Gleichgewicht wieder in Ordnu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900840" y="4114800"/>
          <a:ext cx="181152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0840" y="4114800"/>
                    <a:ext cx="18115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5715000" y="3352680"/>
            <a:ext cx="2362320" cy="685800"/>
          </a:xfrm>
          <a:prstGeom prst="cloudCallout">
            <a:avLst>
              <a:gd name="adj1" fmla="val 52421"/>
              <a:gd name="adj2" fmla="val 97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Wußt ich‘s doc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72480" y="574560"/>
            <a:ext cx="761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pannungs ist eine Folge des Ungleichgewichts von K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ung ist ein KGS-Gleichgewichtszu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27160" y="2251080"/>
            <a:ext cx="74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wirkt gleichmässig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 Körper, Geist und See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00200" y="2743200"/>
            <a:ext cx="358128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0240" y="4765680"/>
            <a:ext cx="1969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motor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4120" y="2743200"/>
            <a:ext cx="9144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191120"/>
            <a:ext cx="23778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aufgrund von Bildung (Musikunterr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543800" y="2819520"/>
            <a:ext cx="7632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4648320"/>
            <a:ext cx="230184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 wegen der emotionalen Wirk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2209680"/>
            <a:ext cx="106704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2286000"/>
            <a:ext cx="83808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2286000"/>
            <a:ext cx="9144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71760" y="49860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kala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0800" y="1447920"/>
            <a:ext cx="620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nicht-entsp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angespan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pannt                                       err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ruhigt                                         aufger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änftigt                                       aktiv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133720"/>
            <a:ext cx="2210040" cy="1066680"/>
          </a:xfrm>
          <a:prstGeom prst="leftRightArrow">
            <a:avLst>
              <a:gd name="adj1" fmla="val 50000"/>
              <a:gd name="adj2" fmla="val 41246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0440" y="446076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usikalische Param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8560" y="5146560"/>
            <a:ext cx="77882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utstärke, Tempo, Dichte der Ereignisse, Tonhöhenlage, Klangfarbe (immanente Parame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nre“, Bekanntheit, Text-“absolut“ (kulturspezifisch-subjektive Parame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880" y="803160"/>
            <a:ext cx="725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 Suggestion lässt sich eine Problemlösung herbeiführen, auch ein Spannungsabb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240336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 ist ein Placebo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ie wirkt durch Selbst- oder Fremdsuggestion. Da musikalische Bildung gering ist, wird der Musik unangemessen große Wirkung zugesprochen – und dann wirkt sie tatsächlich mittels Sug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92120" y="4800600"/>
            <a:ext cx="24163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-Verspre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160" y="4800600"/>
            <a:ext cx="927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35880" y="4800600"/>
            <a:ext cx="8236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54280" y="6172200"/>
            <a:ext cx="9608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248520" y="5334120"/>
            <a:ext cx="609480" cy="761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0292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5410080"/>
            <a:ext cx="14479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520" y="6172200"/>
            <a:ext cx="3402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mung von Prof. Str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640080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895480" y="54097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4880" y="803160"/>
            <a:ext cx="725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ch Suggestion lässt sich eine Problemlösung herbeiführen, auch ein Spannungsabb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403360"/>
            <a:ext cx="335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t Musik ein Placeb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22240" y="879480"/>
            <a:ext cx="7407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i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Ursache von Anspannung ist Ang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429000"/>
            <a:ext cx="25304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Dies ist eigentlich schon Fall 2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371600" y="198108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6240" y="4994280"/>
            <a:ext cx="2070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rsache: Ang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057400"/>
            <a:ext cx="640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usik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kann bei der Verarbeitung („Überwindung“) von Angst mitwirken und dadurch auch entspa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525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4760" y="5029200"/>
            <a:ext cx="3070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ymptom: An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77400" y="5985000"/>
            <a:ext cx="296352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: Angst beseiti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98560" y="5908680"/>
            <a:ext cx="26298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lge: Ent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752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724280"/>
            <a:ext cx="8153280" cy="190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ntspannt" descr=""/>
          <p:cNvPicPr/>
          <p:nvPr/>
        </p:nvPicPr>
        <p:blipFill>
          <a:blip r:embed="rId1"/>
          <a:stretch/>
        </p:blipFill>
        <p:spPr>
          <a:xfrm>
            <a:off x="533520" y="3240"/>
            <a:ext cx="807696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848720" y="1981080"/>
            <a:ext cx="685800" cy="3812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2438280"/>
            <a:ext cx="914400" cy="3812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6600" y="2286000"/>
            <a:ext cx="2072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lutdruck si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70280" y="2971800"/>
            <a:ext cx="2512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erzfrequenz si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038480"/>
            <a:ext cx="32925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autwiderstandskurve“ wird r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2286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ehirnwellen „langsamer“ synchronisie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3240" y="5334120"/>
            <a:ext cx="3106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Schmerztoleranz größ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657600" y="3962520"/>
            <a:ext cx="380880" cy="4572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581280" y="2514240"/>
            <a:ext cx="1295640" cy="762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438280"/>
            <a:ext cx="68580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572000" y="609480"/>
            <a:ext cx="533520" cy="1526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4240" y="304920"/>
            <a:ext cx="572904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rühere 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hirnwellen (EEG-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hirnwellensynchr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ain-Disco“ (Hautwiderstands-Feed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4240" y="2438280"/>
            <a:ext cx="4064040" cy="19227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utogenes Trai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ch bin ganz ruhig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ine rechte Hand ist schw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ine rechte Hand ist warm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800" y="4572000"/>
            <a:ext cx="696420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Prinzip: Umkehr von Ursache und Wirku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(Bio-)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(Auto-)Sug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5120" y="152280"/>
            <a:ext cx="53244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sik + Entspannu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3048120"/>
            <a:ext cx="1905120" cy="1523880"/>
          </a:xfrm>
          <a:prstGeom prst="rightArrow">
            <a:avLst>
              <a:gd name="adj1" fmla="val 50000"/>
              <a:gd name="adj2" fmla="val 31254"/>
            </a:avLst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Mus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85800"/>
            <a:ext cx="2438640" cy="609480"/>
          </a:xfrm>
          <a:prstGeom prst="rightArrow">
            <a:avLst>
              <a:gd name="adj1" fmla="val 50000"/>
              <a:gd name="adj2" fmla="val 10003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merz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676520"/>
            <a:ext cx="1828800" cy="76176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mstrit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81952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Tiefenen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pa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17360" y="1600200"/>
            <a:ext cx="56779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erstützung eines nicht-musikspezif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sprogramms (z.B. Musikmedi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2590920"/>
            <a:ext cx="565452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usik ist Bestandteil eines Trainingsprogramms, z.B. Super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581280"/>
            <a:ext cx="5638680" cy="1557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k bewirk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merksamkeitsän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blenden erregender Urs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weitert/verändert die Wahrnehm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5334120"/>
            <a:ext cx="5638680" cy="1191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ezielle akustische Eigenschaft bearbeitet ein Symptom, z.B. Klangmassage, Hemi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609480"/>
            <a:ext cx="6019560" cy="8254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xiolytischer Einsatz: Musik zur Angstreduktion (siehe später: Musik + Angs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209680"/>
            <a:ext cx="175248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 Mus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8080" y="407988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uperlear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Span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5:05:17Z</dcterms:created>
  <dc:creator>wms</dc:creator>
  <dc:description/>
  <dc:language>en-US</dc:language>
  <cp:lastModifiedBy>wms</cp:lastModifiedBy>
  <dcterms:modified xsi:type="dcterms:W3CDTF">2004-12-13T14:35:06Z</dcterms:modified>
  <cp:revision>22</cp:revision>
  <dc:subject/>
  <dc:title>PowerPoint-Präsentation</dc:title>
</cp:coreProperties>
</file>